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25.wmf" ContentType="image/x-wmf"/>
  <Override PartName="/ppt/media/image45.jpeg" ContentType="image/jpeg"/>
  <Override PartName="/ppt/media/image44.png" ContentType="image/png"/>
  <Override PartName="/ppt/media/image75.jpeg" ContentType="image/jpeg"/>
  <Override PartName="/ppt/media/image41.jpeg" ContentType="image/jpeg"/>
  <Override PartName="/ppt/media/image23.wmf" ContentType="image/x-wmf"/>
  <Override PartName="/ppt/media/image36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gif" ContentType="image/gif"/>
  <Override PartName="/ppt/media/image74.jpeg" ContentType="image/jpeg"/>
  <Override PartName="/ppt/media/image51.jpeg" ContentType="image/jpeg"/>
  <Override PartName="/ppt/media/image38.png" ContentType="image/png"/>
  <Override PartName="/ppt/media/image60.wmf" ContentType="image/x-wmf"/>
  <Override PartName="/ppt/media/image8.jpeg" ContentType="image/jpeg"/>
  <Override PartName="/ppt/media/image10.jpeg" ContentType="image/jpeg"/>
  <Override PartName="/ppt/media/image86.jpeg" ContentType="image/jpeg"/>
  <Override PartName="/ppt/media/image7.jpeg" ContentType="image/jpeg"/>
  <Override PartName="/ppt/media/image54.jpeg" ContentType="image/jpeg"/>
  <Override PartName="/ppt/media/image6.jpeg" ContentType="image/jpeg"/>
  <Override PartName="/ppt/media/image30.png" ContentType="image/png"/>
  <Override PartName="/ppt/media/image98.wmf" ContentType="image/x-wmf"/>
  <Override PartName="/ppt/media/image28.wmf" ContentType="image/x-wmf"/>
  <Override PartName="/ppt/media/image11.gif" ContentType="image/gif"/>
  <Override PartName="/ppt/media/image5.jpeg" ContentType="image/jpeg"/>
  <Override PartName="/ppt/media/image61.png" ContentType="image/png"/>
  <Override PartName="/ppt/media/image62.png" ContentType="image/png"/>
  <Override PartName="/ppt/media/image87.jpeg" ContentType="image/jpeg"/>
  <Override PartName="/ppt/media/image27.wmf" ContentType="image/x-wmf"/>
  <Override PartName="/ppt/media/image64.wmf" ContentType="image/x-wmf"/>
  <Override PartName="/ppt/media/image68.jpeg" ContentType="image/jpeg"/>
  <Override PartName="/ppt/media/image69.jpeg" ContentType="image/jpeg"/>
  <Override PartName="/ppt/media/image65.wmf" ContentType="image/x-wmf"/>
  <Override PartName="/ppt/media/image19.jpeg" ContentType="image/jpeg"/>
  <Override PartName="/ppt/media/image71.jpeg" ContentType="image/jpeg"/>
  <Override PartName="/ppt/media/image70.jpeg" ContentType="image/jpeg"/>
  <Override PartName="/ppt/media/image72.png" ContentType="image/png"/>
  <Override PartName="/ppt/media/image73.jpeg" ContentType="image/jpeg"/>
  <Override PartName="/ppt/media/image67.jpeg" ContentType="image/jpeg"/>
  <Override PartName="/ppt/media/image26.wmf" ContentType="image/x-wmf"/>
  <Override PartName="/ppt/media/image46.jpeg" ContentType="image/jpeg"/>
  <Override PartName="/ppt/media/image80.wmf" ContentType="image/x-wmf"/>
  <Override PartName="/ppt/media/image84.gif" ContentType="image/gif"/>
  <Override PartName="/ppt/media/image4.jpeg" ContentType="image/jpeg"/>
  <Override PartName="/ppt/media/image40.png" ContentType="image/png"/>
  <Override PartName="/ppt/media/image76.jpeg" ContentType="image/jpeg"/>
  <Override PartName="/ppt/media/image100.wmf" ContentType="image/x-wmf"/>
  <Override PartName="/ppt/media/image96.gif" ContentType="image/gif"/>
  <Override PartName="/ppt/media/image50.jpeg" ContentType="image/jpeg"/>
  <Override PartName="/ppt/media/image93.jpeg" ContentType="image/jpeg"/>
  <Override PartName="/ppt/media/image95.gif" ContentType="image/gif"/>
  <Override PartName="/ppt/media/image63.png" ContentType="image/png"/>
  <Override PartName="/ppt/media/image85.jpeg" ContentType="image/jpeg"/>
  <Override PartName="/ppt/media/image24.wmf" ContentType="image/x-wmf"/>
  <Override PartName="/ppt/media/image83.wmf" ContentType="image/x-wmf"/>
  <Override PartName="/ppt/media/image78.jpeg" ContentType="image/jpeg"/>
  <Override PartName="/ppt/media/image91.jpeg" ContentType="image/jpeg"/>
  <Override PartName="/ppt/media/image94.jpeg" ContentType="image/jpeg"/>
  <Override PartName="/ppt/media/image20.jpeg" ContentType="image/jpeg"/>
  <Override PartName="/ppt/media/image90.jpeg" ContentType="image/jpeg"/>
  <Override PartName="/ppt/media/image88.jpeg" ContentType="image/jpeg"/>
  <Override PartName="/ppt/media/image77.jpeg" ContentType="image/jpeg"/>
  <Override PartName="/ppt/media/image42.jpeg" ContentType="image/jpeg"/>
  <Override PartName="/ppt/media/image3.gif" ContentType="image/gif"/>
  <Override PartName="/ppt/media/image57.png" ContentType="image/png"/>
  <Override PartName="/ppt/media/image97.wmf" ContentType="image/x-wmf"/>
  <Override PartName="/ppt/media/image18.jpeg" ContentType="image/jpeg"/>
  <Override PartName="/ppt/media/image15.png" ContentType="image/png"/>
  <Override PartName="/ppt/media/image92.jpeg" ContentType="image/jpeg"/>
  <Override PartName="/ppt/media/image21.jpeg" ContentType="image/jpeg"/>
  <Override PartName="/ppt/media/image29.png" ContentType="image/png"/>
  <Override PartName="/ppt/media/image17.gif" ContentType="image/gif"/>
  <Override PartName="/ppt/media/image82.jpeg" ContentType="image/jpeg"/>
  <Override PartName="/ppt/media/image16.gif" ContentType="image/gif"/>
  <Override PartName="/ppt/media/image79.jpeg" ContentType="image/jpeg"/>
  <Override PartName="/ppt/media/image14.gif" ContentType="image/gif"/>
  <Override PartName="/ppt/media/image101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89.jpeg" ContentType="image/jpeg"/>
  <Override PartName="/ppt/media/image1.jpeg" ContentType="image/jpeg"/>
  <Override PartName="/ppt/media/image2.jpeg" ContentType="image/jpeg"/>
  <Override PartName="/ppt/media/image9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A85-E186-4B48-8D90-6AFA2849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8DA-D5E4-4DB8-B7BA-8A1ED939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4CE-A589-4407-9ECE-FD0B6059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D9D-84C9-4154-B6B5-595F6AEC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97C-43B3-4308-BB53-81143AC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FEF-1DEE-4F7C-AF28-A7221CE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EBA-9698-40CD-B736-9AF7FA4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001-ADD2-44A9-B140-6F464EE5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426-4A66-43C3-B9C9-5EC44EB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E86-958B-4A69-8009-DAC1775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1EB-1DF8-463D-A53F-1FC08C6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411-44FC-44DD-98B2-8AA4299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917-21F4-472E-BBB2-68B32F124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5.wmf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24.wmf"/><Relationship Id="rId8" Type="http://schemas.openxmlformats.org/officeDocument/2006/relationships/image" Target="../media/image44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26.wmf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30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23.wmf"/><Relationship Id="rId4" Type="http://schemas.openxmlformats.org/officeDocument/2006/relationships/image" Target="../media/image5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27.wmf"/><Relationship Id="rId4" Type="http://schemas.openxmlformats.org/officeDocument/2006/relationships/image" Target="../media/image59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367030201&amp;tn=baiduimagedetail&amp;word=&#22278;&#38181;&#20307;&amp;in=9" TargetMode="External"/><Relationship Id="rId3" Type="http://schemas.openxmlformats.org/officeDocument/2006/relationships/image" Target="../media/image73.jpeg"/><Relationship Id="rId4" Type="http://schemas.openxmlformats.org/officeDocument/2006/relationships/hyperlink" Target="http://image.baidu.com/i?ct=503316480&amp;z=807182052&amp;tn=baiduimagedetail&amp;word=&#22278;&#26609;&amp;in=14" TargetMode="External"/><Relationship Id="rId5" Type="http://schemas.openxmlformats.org/officeDocument/2006/relationships/image" Target="../media/image74.jpeg"/><Relationship Id="rId6" Type="http://schemas.openxmlformats.org/officeDocument/2006/relationships/hyperlink" Target="http://image.baidu.com/i?ct=503316480&amp;z=3265003&amp;tn=baiduimagedetail&amp;word=&#40635;&#23558;&amp;in=82" TargetMode="External"/><Relationship Id="rId7" Type="http://schemas.openxmlformats.org/officeDocument/2006/relationships/image" Target="../media/image75.jpeg"/><Relationship Id="rId8" Type="http://schemas.openxmlformats.org/officeDocument/2006/relationships/hyperlink" Target="http://image.baidu.com/i?ct=503316480&amp;z=263284950&amp;tn=baiduimagedetail&amp;word=&#39764;&#26041;&amp;in=52" TargetMode="External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2.png"/><Relationship Id="rId13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60.wmf"/><Relationship Id="rId6" Type="http://schemas.openxmlformats.org/officeDocument/2006/relationships/image" Target="../media/image72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95.gi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image" Target="../media/image99.wmf"/><Relationship Id="rId5" Type="http://schemas.openxmlformats.org/officeDocument/2006/relationships/image" Target="../media/image100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1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4.1.1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立体图形与平面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236680"/>
            <a:ext cx="81360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常见的几何图形，并能用自己的语言描述常见几何图形的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经历从现实世界中抽象几何图形的过程，通过对比，概括出几何研究的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实物与几何图形之间建立对应关系，在复习小学学过的平面图形的基础上，建立几何图形的概念，发展空间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59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92880" y="78732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2359080"/>
            <a:ext cx="76345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价值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现实世界中抽象出几何图形的过程，感受图形世界的丰富多彩，激发对学习空间与图形的兴趣，体验数学学习的乐趣，提高数学应用意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76360" y="123840"/>
            <a:ext cx="2849400" cy="1709640"/>
            <a:chOff x="3276360" y="123840"/>
            <a:chExt cx="2849400" cy="1709640"/>
          </a:xfrm>
        </p:grpSpPr>
        <p:sp>
          <p:nvSpPr>
            <p:cNvPr id="64" name="filecab3"/>
            <p:cNvSpPr/>
            <p:nvPr/>
          </p:nvSpPr>
          <p:spPr>
            <a:xfrm rot="10800000">
              <a:off x="3276360" y="9950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894120" y="1238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5400" y="380880"/>
            <a:ext cx="1689120" cy="1228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8480" y="2058840"/>
            <a:ext cx="6899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观察，讨论，思考和实践等活动，识别简单几何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难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具体实物中抽象出几何体的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63440" y="54000"/>
            <a:ext cx="3551400" cy="1692360"/>
            <a:chOff x="2863440" y="54000"/>
            <a:chExt cx="3551400" cy="1692360"/>
          </a:xfrm>
        </p:grpSpPr>
        <p:sp>
          <p:nvSpPr>
            <p:cNvPr id="69" name="filecab3"/>
            <p:cNvSpPr/>
            <p:nvPr/>
          </p:nvSpPr>
          <p:spPr>
            <a:xfrm rot="10800000">
              <a:off x="2863440" y="907920"/>
              <a:ext cx="3551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853080" y="540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197840" y="1498680"/>
            <a:ext cx="1538280" cy="11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1136520"/>
            <a:ext cx="800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据说在很久以前，埃及的尼罗河每年都会有洪水泛滥．泛滥的河水在给下游带来肥沃的土壤的同时，往往将土地的地界冲垮．所以每年洪水退后，人们便要重新对土地进行测量、计算，以便重新划分田地．日积月累，古代埃及人便逐渐学会了计算简单图形面积的方法，进而形成了有关图形的一些知识．后来人们便将些知识称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eometry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意为“测地术”，即测量土地的方法．这就是几何学的雏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35680" y="5334120"/>
            <a:ext cx="1278000" cy="461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94000" y="1231920"/>
            <a:ext cx="53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何”学的主要研究对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98640" y="454176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图形的形状、大小和位置关系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60640" y="1620720"/>
            <a:ext cx="1233360" cy="2022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806560" y="27860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818320" y="27860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8200" y="1533600"/>
            <a:ext cx="914400" cy="914400"/>
          </a:xfrm>
          <a:prstGeom prst="rect">
            <a:avLst/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1614600"/>
            <a:ext cx="1358640" cy="914400"/>
          </a:xfrm>
          <a:prstGeom prst="parallelogram">
            <a:avLst>
              <a:gd name="adj" fmla="val 37146"/>
            </a:avLst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9200" y="3438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1533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8400" y="15336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3500280"/>
            <a:ext cx="914400" cy="914400"/>
          </a:xfrm>
          <a:prstGeom prst="ellipse">
            <a:avLst/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99000" y="3586320"/>
            <a:ext cx="914400" cy="914400"/>
          </a:xfrm>
          <a:prstGeom prst="donut">
            <a:avLst>
              <a:gd name="adj" fmla="val 25000"/>
            </a:avLst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00880" y="1533600"/>
            <a:ext cx="961920" cy="914400"/>
          </a:xfrm>
          <a:prstGeom prst="pentagon">
            <a:avLst/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14880" y="3438360"/>
            <a:ext cx="2016000" cy="1008360"/>
          </a:xfrm>
          <a:prstGeom prst="ellipse">
            <a:avLst/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24560" y="3133800"/>
            <a:ext cx="1513080" cy="1563480"/>
          </a:xfrm>
          <a:prstGeom prst="star5">
            <a:avLst/>
          </a:prstGeom>
          <a:solidFill>
            <a:srgbClr val="aaa4f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880" y="26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46360" y="26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71880" y="2752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77000" y="2752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77200" y="2676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4581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5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6245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椭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469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765000"/>
            <a:ext cx="59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说出下列图形的名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5160" y="5154480"/>
            <a:ext cx="72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几何图形的各部分都在同一平内，这样的几何图形叫做平面图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81560" y="1185840"/>
            <a:ext cx="2304720" cy="204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80760" y="69372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下列图形，从中找出你熟悉的几何图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87280" y="131292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56360" y="12272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26920" y="3327480"/>
            <a:ext cx="3384720" cy="2462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923000" y="3405240"/>
            <a:ext cx="3825720" cy="23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6920" y="5951520"/>
            <a:ext cx="74264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实物中抽象出来的各种图形统称为几何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53164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棱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7840" y="53164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0760" y="29401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7440" y="53164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1440" y="28274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94012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1569960"/>
            <a:ext cx="1241280" cy="124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57440" y="1504800"/>
            <a:ext cx="1752480" cy="1322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865760" y="1190520"/>
            <a:ext cx="1028520" cy="148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379760" y="3417840"/>
            <a:ext cx="1514520" cy="1596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54040" y="3832200"/>
            <a:ext cx="1530360" cy="1478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89000" y="692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20fa"/>
                </a:solidFill>
                <a:latin typeface="Times New Roman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识这些图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2480" y="5923080"/>
            <a:ext cx="36752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它们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431040" y="3832200"/>
            <a:ext cx="1501560" cy="122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04000" y="5316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圆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408720" y="1190520"/>
            <a:ext cx="1523880" cy="1636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294012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657520" y="3459240"/>
            <a:ext cx="1595520" cy="159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49920" y="304164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62080" y="1365120"/>
            <a:ext cx="3687840" cy="4249800"/>
          </a:xfrm>
          <a:prstGeom prst="verticalScroll">
            <a:avLst>
              <a:gd name="adj" fmla="val 12500"/>
            </a:avLst>
          </a:prstGeom>
          <a:blipFill rotWithShape="0">
            <a:blip r:embed="rId3">
              <a:alphaModFix amt="26000"/>
            </a:blip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几何图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部分不都在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平面内，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这样的图形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42920" y="866880"/>
            <a:ext cx="59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下列图形，从中找出立体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1800" y="16876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78200" y="168768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451240" y="417996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20800" y="383868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7508880" y="2825640"/>
            <a:ext cx="1262160" cy="1825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349880" y="4179960"/>
            <a:ext cx="125712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938920" y="3495600"/>
            <a:ext cx="1298520" cy="68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6040" y="183204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48120" y="2662200"/>
            <a:ext cx="60696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779200" y="-23760"/>
            <a:ext cx="2849400" cy="1709640"/>
            <a:chOff x="2779200" y="-23760"/>
            <a:chExt cx="2849400" cy="1709640"/>
          </a:xfrm>
        </p:grpSpPr>
        <p:sp>
          <p:nvSpPr>
            <p:cNvPr id="45" name="filecab3"/>
            <p:cNvSpPr/>
            <p:nvPr/>
          </p:nvSpPr>
          <p:spPr>
            <a:xfrm rot="10800000">
              <a:off x="2779200" y="8474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396960" y="-2376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68480" y="77940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6440" y="13190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744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187720" y="43689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868480" y="249228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6934320" y="2550960"/>
            <a:ext cx="1752480" cy="132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697280" y="4368960"/>
            <a:ext cx="1200240" cy="161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248440" y="3152880"/>
            <a:ext cx="1298520" cy="68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30040" y="142884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127240" y="15177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125960" y="147312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380360" y="3021120"/>
            <a:ext cx="1514520" cy="1596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09520" y="3973680"/>
            <a:ext cx="1616040" cy="191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638520" y="3762360"/>
            <a:ext cx="1542960" cy="211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5781600" y="3476520"/>
            <a:ext cx="1298520" cy="68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03680" y="4441680"/>
            <a:ext cx="1600200" cy="1603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571920" y="890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46120" y="243216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4960" y="4179960"/>
            <a:ext cx="2279520" cy="169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489480" y="2550960"/>
            <a:ext cx="2263680" cy="1697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rcRect l="0" t="0" r="0" b="77"/>
          <a:stretch/>
        </p:blipFill>
        <p:spPr>
          <a:xfrm>
            <a:off x="1095480" y="880920"/>
            <a:ext cx="1719000" cy="131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7227720" y="2692440"/>
            <a:ext cx="1727280" cy="1730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810400" y="3152880"/>
            <a:ext cx="1298520" cy="68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98640" y="1170000"/>
            <a:ext cx="1728720" cy="170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8480" y="2879640"/>
            <a:ext cx="1241640" cy="124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898640" y="3681360"/>
            <a:ext cx="1635120" cy="1771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438800" y="3152880"/>
            <a:ext cx="1298520" cy="68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77880" y="1406520"/>
            <a:ext cx="2268720" cy="151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59480" y="2922480"/>
            <a:ext cx="1530360" cy="147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341360" y="3492360"/>
            <a:ext cx="2505240" cy="1816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708440" y="3152880"/>
            <a:ext cx="1298520" cy="68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65080" y="987480"/>
            <a:ext cx="73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把下列几何图形分类吗？说说你的理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89680" y="460044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02320" y="5254560"/>
            <a:ext cx="27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65320" y="45464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立体图形</a:t>
            </a:r>
            <a:r>
              <a:rPr b="0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65320" y="5284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平面图形</a:t>
            </a:r>
            <a:r>
              <a:rPr b="0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6280" y="45608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各个部分不在同一个平面内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16200" y="52466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各个部分都在同一个平面内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7880" y="3639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B              C               D           E       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1440" y="4416480"/>
            <a:ext cx="7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4708440"/>
            <a:ext cx="237960" cy="893880"/>
          </a:xfrm>
          <a:custGeom>
            <a:avLst/>
            <a:gdLst>
              <a:gd name="textAreaLeft" fmla="*/ 151920 w 237960"/>
              <a:gd name="textAreaRight" fmla="*/ 238320 w 237960"/>
              <a:gd name="textAreaTop" fmla="*/ 23040 h 893880"/>
              <a:gd name="textAreaBottom" fmla="*/ 870840 h 89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58880" y="2336760"/>
            <a:ext cx="1467000" cy="1219320"/>
          </a:xfrm>
          <a:custGeom>
            <a:avLst/>
            <a:gdLst/>
            <a:ahLst/>
            <a:rect l="l" t="t" r="r" b="b"/>
            <a:pathLst>
              <a:path w="924" h="768">
                <a:moveTo>
                  <a:pt x="357" y="91"/>
                </a:moveTo>
                <a:lnTo>
                  <a:pt x="0" y="622"/>
                </a:lnTo>
                <a:lnTo>
                  <a:pt x="741" y="768"/>
                </a:lnTo>
                <a:lnTo>
                  <a:pt x="924" y="0"/>
                </a:lnTo>
                <a:lnTo>
                  <a:pt x="357" y="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2520" y="2624040"/>
            <a:ext cx="809640" cy="5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426440" y="2329920"/>
            <a:ext cx="1009440" cy="1067400"/>
            <a:chOff x="7426440" y="2329920"/>
            <a:chExt cx="1009440" cy="1067400"/>
          </a:xfrm>
        </p:grpSpPr>
        <p:sp>
          <p:nvSpPr>
            <p:cNvPr id="183" name=""/>
            <p:cNvSpPr/>
            <p:nvPr/>
          </p:nvSpPr>
          <p:spPr>
            <a:xfrm>
              <a:off x="7428960" y="2330280"/>
              <a:ext cx="100692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428600" y="2552400"/>
              <a:ext cx="1005840" cy="56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0" y="11260"/>
                  </a:moveTo>
                  <a:arcTo wR="10800" hR="10800" stAng="146493" swAng="10574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0" y="11260"/>
                  </a:moveTo>
                  <a:arcTo wR="10800" hR="10800" stAng="146493" swAng="1057425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426440" y="2633760"/>
              <a:ext cx="1005840" cy="57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7" y="11639"/>
                  </a:moveTo>
                  <a:arcTo wR="10800" hR="10800" stAng="267475" swAng="101975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7" y="11639"/>
                  </a:moveTo>
                  <a:arcTo wR="10800" hR="10800" stAng="267475" swAng="10197549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690320" y="2329920"/>
              <a:ext cx="509040" cy="1066680"/>
              <a:chOff x="7690320" y="2329920"/>
              <a:chExt cx="509040" cy="106668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7689960" y="2330640"/>
                <a:ext cx="434520" cy="106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7" y="21576"/>
                    </a:moveTo>
                    <a:arcTo wR="10800" hR="10800" stAng="5630185" swAng="104127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7" y="21576"/>
                    </a:moveTo>
                    <a:arcTo wR="10800" hR="10800" stAng="5630185" swAng="10412726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4840" y="2329920"/>
                <a:ext cx="434520" cy="106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7" y="21576"/>
                    </a:moveTo>
                    <a:arcTo wR="10800" hR="10800" stAng="5630185" swAng="104127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7" y="21576"/>
                    </a:moveTo>
                    <a:arcTo wR="10800" hR="10800" stAng="5630185" swAng="10412726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84880" y="1774440"/>
            <a:ext cx="762120" cy="1719720"/>
            <a:chOff x="6284880" y="1774440"/>
            <a:chExt cx="762120" cy="1719720"/>
          </a:xfrm>
        </p:grpSpPr>
        <p:grpSp>
          <p:nvGrpSpPr>
            <p:cNvPr id="190" name=""/>
            <p:cNvGrpSpPr/>
            <p:nvPr/>
          </p:nvGrpSpPr>
          <p:grpSpPr>
            <a:xfrm>
              <a:off x="6284880" y="1774440"/>
              <a:ext cx="762120" cy="1719720"/>
              <a:chOff x="6284880" y="1774440"/>
              <a:chExt cx="762120" cy="171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6284880" y="2171160"/>
                <a:ext cx="0" cy="132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7000" y="2171160"/>
                <a:ext cx="0" cy="132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284880" y="1774440"/>
                <a:ext cx="544680" cy="39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84880" y="3494160"/>
                <a:ext cx="76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9560" y="1774800"/>
                <a:ext cx="217080" cy="39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828480" y="1774800"/>
              <a:ext cx="0" cy="132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284880" y="3097080"/>
              <a:ext cx="544680" cy="396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84880" y="217116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9560" y="3097080"/>
              <a:ext cx="217080" cy="396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227400" y="2417760"/>
            <a:ext cx="1515960" cy="928800"/>
            <a:chOff x="3227400" y="2417760"/>
            <a:chExt cx="1515960" cy="928800"/>
          </a:xfrm>
        </p:grpSpPr>
        <p:sp>
          <p:nvSpPr>
            <p:cNvPr id="201" name=""/>
            <p:cNvSpPr/>
            <p:nvPr/>
          </p:nvSpPr>
          <p:spPr>
            <a:xfrm>
              <a:off x="3227400" y="2417760"/>
              <a:ext cx="1515960" cy="927360"/>
            </a:xfrm>
            <a:custGeom>
              <a:avLst/>
              <a:gdLst/>
              <a:ahLst/>
              <a:rect l="l" t="t" r="r" b="b"/>
              <a:pathLst>
                <a:path w="1043" h="680">
                  <a:moveTo>
                    <a:pt x="499" y="0"/>
                  </a:moveTo>
                  <a:lnTo>
                    <a:pt x="0" y="680"/>
                  </a:lnTo>
                  <a:lnTo>
                    <a:pt x="817" y="680"/>
                  </a:lnTo>
                  <a:lnTo>
                    <a:pt x="1043" y="317"/>
                  </a:lnTo>
                  <a:lnTo>
                    <a:pt x="49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2440" y="2417760"/>
              <a:ext cx="460440" cy="9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227400" y="2850840"/>
              <a:ext cx="1515960" cy="49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47560" y="2190600"/>
            <a:ext cx="1030320" cy="1263960"/>
          </a:xfrm>
          <a:custGeom>
            <a:avLst/>
            <a:gdLst/>
            <a:ahLst/>
            <a:rect l="l" t="t" r="r" b="b"/>
            <a:pathLst>
              <a:path w="649" h="796">
                <a:moveTo>
                  <a:pt x="0" y="796"/>
                </a:moveTo>
                <a:lnTo>
                  <a:pt x="549" y="796"/>
                </a:lnTo>
                <a:lnTo>
                  <a:pt x="649" y="55"/>
                </a:lnTo>
                <a:lnTo>
                  <a:pt x="329" y="311"/>
                </a:lnTo>
                <a:lnTo>
                  <a:pt x="192" y="0"/>
                </a:lnTo>
                <a:cubicBezTo>
                  <a:pt x="128" y="265"/>
                  <a:pt x="0" y="796"/>
                  <a:pt x="0" y="79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03160" y="1527120"/>
            <a:ext cx="4843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棱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有两个面互相平行，其余各面都是平行四边形，并且每相邻两个平行四边形的公共边互相平行．这些面所围成的 几何体叫棱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311880" y="1876320"/>
            <a:ext cx="1784520" cy="2635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20840" y="2100240"/>
            <a:ext cx="4746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　棱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有一个面是多边行，其余各面是有一个公共顶点的三角形，这些面围成的几何体叫棱锥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762520" y="1614600"/>
            <a:ext cx="3017880" cy="291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41280" y="1187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　　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半圆绕它的直径旋转一周，旋转所成的曲面叫球面，球面所围成的几何体叫球体，简称球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771640" y="3286080"/>
            <a:ext cx="2452680" cy="245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4659480" y="1982520"/>
            <a:ext cx="3600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7920" y="2703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面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25588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立体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7240" y="5183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画立体图形时，常把被遮挡的轮廓画成虚线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14720" y="2487600"/>
            <a:ext cx="2808000" cy="1944360"/>
            <a:chOff x="4914720" y="2487600"/>
            <a:chExt cx="2808000" cy="1944360"/>
          </a:xfrm>
        </p:grpSpPr>
        <p:sp>
          <p:nvSpPr>
            <p:cNvPr id="216" name=""/>
            <p:cNvSpPr/>
            <p:nvPr/>
          </p:nvSpPr>
          <p:spPr>
            <a:xfrm flipH="1">
              <a:off x="4914720" y="2487600"/>
              <a:ext cx="156852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15080" y="4431960"/>
              <a:ext cx="280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3600" y="2487600"/>
              <a:ext cx="123912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915080" y="3783240"/>
              <a:ext cx="1486800" cy="64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401880" y="2581200"/>
              <a:ext cx="81360" cy="1201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1880" y="3783240"/>
              <a:ext cx="1320840" cy="64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225080" y="2416320"/>
            <a:ext cx="2808720" cy="1944720"/>
            <a:chOff x="1225080" y="2416320"/>
            <a:chExt cx="2808720" cy="1944720"/>
          </a:xfrm>
        </p:grpSpPr>
        <p:sp>
          <p:nvSpPr>
            <p:cNvPr id="223" name=""/>
            <p:cNvSpPr/>
            <p:nvPr/>
          </p:nvSpPr>
          <p:spPr>
            <a:xfrm flipH="1">
              <a:off x="1225080" y="2416320"/>
              <a:ext cx="156852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5440" y="436104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3960" y="2416320"/>
              <a:ext cx="123984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225440" y="3711600"/>
              <a:ext cx="14875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12600" y="2416320"/>
              <a:ext cx="9684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2960" y="3711960"/>
              <a:ext cx="13208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31840" y="12128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这两个图形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5680" y="927000"/>
            <a:ext cx="7148520" cy="4532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91040" y="54594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5320" y="2387520"/>
            <a:ext cx="1425600" cy="2659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908600" y="2387520"/>
            <a:ext cx="1638360" cy="2833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32080" y="37339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0760" y="110808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棱柱与圆柱有什么相同点与不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0840" y="3525840"/>
            <a:ext cx="725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2080" y="37339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560" y="1198440"/>
            <a:ext cx="7704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相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圆柱和棱柱都是由两个形状相同的底面构成，都给人一种直立的感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　　不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圆柱的两个底面是圆形，而棱柱的底面是多边形．圆柱的侧面只有一个是曲面，而棱柱的侧面是多个都是平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80200" y="3733920"/>
            <a:ext cx="3128760" cy="208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棱柱有直棱柱和斜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476360" y="2116080"/>
            <a:ext cx="1676520" cy="3124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76360" y="54450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棱柱（棱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45320" y="544500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斜棱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545080" y="2028960"/>
            <a:ext cx="2198880" cy="275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19040" y="863640"/>
            <a:ext cx="739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简单几何体的分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90600" y="3268800"/>
            <a:ext cx="14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的几何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48120" y="2506680"/>
            <a:ext cx="13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3997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48120" y="50594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2658960"/>
            <a:ext cx="304920" cy="2629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72120" y="2017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14880" y="29019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棱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0760" y="227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9360" y="359244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4402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棱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24360" y="3801960"/>
            <a:ext cx="461880" cy="976320"/>
          </a:xfrm>
          <a:custGeom>
            <a:avLst/>
            <a:gdLst>
              <a:gd name="textAreaLeft" fmla="*/ 295200 w 461880"/>
              <a:gd name="textAreaRight" fmla="*/ 462240 w 461880"/>
              <a:gd name="textAreaTop" fmla="*/ 25200 h 976320"/>
              <a:gd name="textAreaBottom" fmla="*/ 951120 h 97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09680" y="2278080"/>
            <a:ext cx="1780920" cy="2921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5640" y="2000160"/>
            <a:ext cx="2592360" cy="18385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851280" y="20732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227640" y="2165400"/>
            <a:ext cx="2232000" cy="1673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74600" y="136512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实物与给出的哪个几何体相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015920" y="4254480"/>
            <a:ext cx="1828800" cy="1952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56000" y="4059360"/>
            <a:ext cx="2303280" cy="2166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6227640" y="4254480"/>
            <a:ext cx="2409840" cy="195264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149480" y="457200"/>
            <a:ext cx="2620440" cy="852480"/>
            <a:chOff x="1149480" y="457200"/>
            <a:chExt cx="2620440" cy="852480"/>
          </a:xfrm>
        </p:grpSpPr>
        <p:sp>
          <p:nvSpPr>
            <p:cNvPr id="264" name=""/>
            <p:cNvSpPr/>
            <p:nvPr/>
          </p:nvSpPr>
          <p:spPr>
            <a:xfrm>
              <a:off x="1617480" y="51588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8"/>
            <a:stretch/>
          </p:blipFill>
          <p:spPr>
            <a:xfrm>
              <a:off x="1149480" y="45720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57240" y="2370240"/>
            <a:ext cx="2233800" cy="1935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71720" y="4483080"/>
            <a:ext cx="237636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62320" y="2765520"/>
            <a:ext cx="1411560" cy="1368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07000" y="2511360"/>
            <a:ext cx="1873440" cy="1622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507000" y="4535640"/>
            <a:ext cx="1636920" cy="1684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41480" y="16686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实物与给出的哪个几何体相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 rot="1655400">
            <a:off x="4441320" y="5062680"/>
            <a:ext cx="1132200" cy="92376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1100160" y="803160"/>
            <a:ext cx="2620440" cy="852480"/>
            <a:chOff x="1100160" y="803160"/>
            <a:chExt cx="2620440" cy="852480"/>
          </a:xfrm>
        </p:grpSpPr>
        <p:sp>
          <p:nvSpPr>
            <p:cNvPr id="274" name=""/>
            <p:cNvSpPr/>
            <p:nvPr/>
          </p:nvSpPr>
          <p:spPr>
            <a:xfrm>
              <a:off x="1568160" y="8618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2"/>
            <a:stretch/>
          </p:blipFill>
          <p:spPr>
            <a:xfrm>
              <a:off x="1100160" y="8031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g18" descr=""/>
          <p:cNvPicPr/>
          <p:nvPr/>
        </p:nvPicPr>
        <p:blipFill>
          <a:blip r:embed="rId2"/>
          <a:stretch/>
        </p:blipFill>
        <p:spPr>
          <a:xfrm>
            <a:off x="4527720" y="2133720"/>
            <a:ext cx="3592440" cy="1873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123760" y="1965240"/>
            <a:ext cx="6678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48280" y="3657600"/>
            <a:ext cx="0" cy="1015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95840" y="4673520"/>
            <a:ext cx="2503440" cy="963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484488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正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3276720"/>
            <a:ext cx="2016000" cy="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240" y="37782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左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743200"/>
            <a:ext cx="1871640" cy="936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1523880"/>
            <a:ext cx="0" cy="935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9280" y="10047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上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609480"/>
            <a:ext cx="2870280" cy="13557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ShockwaveFlash1"/>
          <p:cNvGraphicFramePr/>
          <p:nvPr/>
        </p:nvGraphicFramePr>
        <p:xfrm>
          <a:off x="1320840" y="1076400"/>
          <a:ext cx="6675480" cy="416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0840" y="1076400"/>
                    <a:ext cx="6675480" cy="416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276640" y="53704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从不同方向看正方体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568680" y="2494080"/>
            <a:ext cx="1687680" cy="25477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508640" y="4128840"/>
            <a:ext cx="1692000" cy="912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70720" y="3828960"/>
            <a:ext cx="10335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正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88840" y="2660760"/>
            <a:ext cx="1636920" cy="2381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25760" y="3819600"/>
            <a:ext cx="104292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800" y="51339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左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56440" y="3522600"/>
            <a:ext cx="1636560" cy="23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1247760"/>
            <a:ext cx="0" cy="11732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1640" y="7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上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45040" y="843120"/>
            <a:ext cx="1660680" cy="1577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1640" y="5133960"/>
            <a:ext cx="22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圆柱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qgsx316" descr=""/>
          <p:cNvPicPr/>
          <p:nvPr/>
        </p:nvPicPr>
        <p:blipFill>
          <a:blip r:embed="rId2"/>
          <a:stretch/>
        </p:blipFill>
        <p:spPr>
          <a:xfrm>
            <a:off x="3532320" y="1774800"/>
            <a:ext cx="2552400" cy="2155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>
            <a:off x="3676680" y="3214440"/>
            <a:ext cx="936720" cy="230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52704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正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20960" y="2854440"/>
            <a:ext cx="1238400" cy="95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1040" y="393048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左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1040" y="2192400"/>
            <a:ext cx="1768320" cy="147780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29040" y="826920"/>
            <a:ext cx="0" cy="947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21200" y="1116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上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56480" y="13399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02280" y="4041720"/>
            <a:ext cx="1768680" cy="147816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47520" y="4381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四棱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85920" y="987480"/>
            <a:ext cx="6681600" cy="438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16320" y="537372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台球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835280" y="1123920"/>
            <a:ext cx="4608000" cy="3744720"/>
            <a:chOff x="1835280" y="1123920"/>
            <a:chExt cx="4608000" cy="3744720"/>
          </a:xfrm>
        </p:grpSpPr>
        <p:pic>
          <p:nvPicPr>
            <p:cNvPr id="313" name="g19" descr=""/>
            <p:cNvPicPr/>
            <p:nvPr/>
          </p:nvPicPr>
          <p:blipFill>
            <a:blip r:embed="rId2"/>
            <a:stretch/>
          </p:blipFill>
          <p:spPr>
            <a:xfrm>
              <a:off x="3160440" y="1123920"/>
              <a:ext cx="328284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835280" y="3601080"/>
              <a:ext cx="1382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V="1">
            <a:off x="3564000" y="3429000"/>
            <a:ext cx="1152360" cy="18972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1960" y="3811680"/>
            <a:ext cx="2520720" cy="230328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5543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正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09880" y="3095640"/>
            <a:ext cx="107964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800" y="1508040"/>
            <a:ext cx="2521080" cy="230364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2800" y="4089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左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5360" y="6048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从上面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16360" y="747720"/>
            <a:ext cx="7920" cy="7761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631920" y="10508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14040" y="23745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ShockwaveFlash1"/>
          <p:cNvGraphicFramePr/>
          <p:nvPr/>
        </p:nvGraphicFramePr>
        <p:xfrm>
          <a:off x="1596960" y="1131840"/>
          <a:ext cx="6399360" cy="416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1131840"/>
                    <a:ext cx="6399360" cy="416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679480" y="529740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从不同的方向看几个正方体叠加图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rot="16200000">
            <a:off x="4902120" y="2404440"/>
            <a:ext cx="990360" cy="106704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140360" y="2404800"/>
            <a:ext cx="99036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3301920" y="2404440"/>
            <a:ext cx="990360" cy="106704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3301920" y="1643040"/>
            <a:ext cx="990720" cy="106704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44800" y="2671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03560" y="919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上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00" y="2443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左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02200" y="411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从正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671920"/>
            <a:ext cx="8380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530520" y="2633040"/>
            <a:ext cx="990360" cy="106704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826240" y="3797280"/>
            <a:ext cx="2304360" cy="1556640"/>
            <a:chOff x="5826240" y="3797280"/>
            <a:chExt cx="2304360" cy="1556640"/>
          </a:xfrm>
        </p:grpSpPr>
        <p:sp>
          <p:nvSpPr>
            <p:cNvPr id="339" name=""/>
            <p:cNvSpPr/>
            <p:nvPr/>
          </p:nvSpPr>
          <p:spPr>
            <a:xfrm>
              <a:off x="5826240" y="3797280"/>
              <a:ext cx="767880" cy="777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6240" y="4575240"/>
              <a:ext cx="767880" cy="7786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94120" y="4575240"/>
              <a:ext cx="768600" cy="7786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2720" y="4575240"/>
              <a:ext cx="767880" cy="7786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63640" y="3297240"/>
            <a:ext cx="1523520" cy="1556640"/>
            <a:chOff x="863640" y="3297240"/>
            <a:chExt cx="1523520" cy="1556640"/>
          </a:xfrm>
        </p:grpSpPr>
        <p:sp>
          <p:nvSpPr>
            <p:cNvPr id="344" name=""/>
            <p:cNvSpPr/>
            <p:nvPr/>
          </p:nvSpPr>
          <p:spPr>
            <a:xfrm>
              <a:off x="863640" y="3297240"/>
              <a:ext cx="761760" cy="778680"/>
            </a:xfrm>
            <a:prstGeom prst="rect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25400" y="4075920"/>
              <a:ext cx="761760" cy="777960"/>
            </a:xfrm>
            <a:prstGeom prst="rect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3640" y="4075920"/>
              <a:ext cx="761760" cy="777960"/>
            </a:xfrm>
            <a:prstGeom prst="rect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59680" y="1330200"/>
            <a:ext cx="2158560" cy="1556640"/>
            <a:chOff x="6259680" y="1330200"/>
            <a:chExt cx="2158560" cy="1556640"/>
          </a:xfrm>
        </p:grpSpPr>
        <p:sp>
          <p:nvSpPr>
            <p:cNvPr id="348" name=""/>
            <p:cNvSpPr/>
            <p:nvPr/>
          </p:nvSpPr>
          <p:spPr>
            <a:xfrm>
              <a:off x="6259680" y="2108160"/>
              <a:ext cx="719640" cy="77868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79320" y="1330200"/>
              <a:ext cx="719280" cy="777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59680" y="1330200"/>
              <a:ext cx="719640" cy="777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8960" y="1330200"/>
              <a:ext cx="719280" cy="777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708360" y="2887560"/>
            <a:ext cx="838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101480" y="244332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92360" y="1909800"/>
            <a:ext cx="83844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68880" y="2671920"/>
            <a:ext cx="76212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211280" y="33904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192800">
            <a:off x="3111480" y="3052440"/>
            <a:ext cx="990360" cy="228600"/>
          </a:xfrm>
          <a:prstGeom prst="parallelogram">
            <a:avLst>
              <a:gd name="adj" fmla="val 10830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192800">
            <a:off x="2882880" y="2823840"/>
            <a:ext cx="990360" cy="228600"/>
          </a:xfrm>
          <a:prstGeom prst="parallelogram">
            <a:avLst>
              <a:gd name="adj" fmla="val 10830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192800">
            <a:off x="2882520" y="206208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40280" y="244332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263760" y="1681200"/>
            <a:ext cx="1067040" cy="228600"/>
          </a:xfrm>
          <a:prstGeom prst="parallelogram">
            <a:avLst>
              <a:gd name="adj" fmla="val 10487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492360" y="2671920"/>
            <a:ext cx="1067040" cy="228600"/>
          </a:xfrm>
          <a:prstGeom prst="parallelogram">
            <a:avLst>
              <a:gd name="adj" fmla="val 10487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97280" y="9190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039680" y="1341360"/>
            <a:ext cx="76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骰子，摆成下面的图形，分别从正面、左面、上面观察这个图形，各能得到什么平面图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04920" y="4121280"/>
            <a:ext cx="2736720" cy="1123920"/>
            <a:chOff x="304920" y="4121280"/>
            <a:chExt cx="2736720" cy="1123920"/>
          </a:xfrm>
        </p:grpSpPr>
        <p:sp>
          <p:nvSpPr>
            <p:cNvPr id="366" name=""/>
            <p:cNvSpPr/>
            <p:nvPr/>
          </p:nvSpPr>
          <p:spPr>
            <a:xfrm>
              <a:off x="304920" y="468324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4920" y="412128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46880" y="468324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99320" y="468324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52120" y="468324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4440" y="4683240"/>
              <a:ext cx="547200" cy="5619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896760" y="5670720"/>
            <a:ext cx="24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正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042320" y="4373640"/>
            <a:ext cx="1782720" cy="1068480"/>
            <a:chOff x="7042320" y="4373640"/>
            <a:chExt cx="1782720" cy="1068480"/>
          </a:xfrm>
        </p:grpSpPr>
        <p:sp>
          <p:nvSpPr>
            <p:cNvPr id="374" name=""/>
            <p:cNvSpPr/>
            <p:nvPr/>
          </p:nvSpPr>
          <p:spPr>
            <a:xfrm>
              <a:off x="7042320" y="4907880"/>
              <a:ext cx="593640" cy="534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2320" y="4373640"/>
              <a:ext cx="593640" cy="534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31400" y="4907880"/>
              <a:ext cx="593640" cy="534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35960" y="4907880"/>
              <a:ext cx="595440" cy="534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991200" y="5442120"/>
            <a:ext cx="18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左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97200" y="4232160"/>
            <a:ext cx="2661840" cy="1483920"/>
            <a:chOff x="3697200" y="4232160"/>
            <a:chExt cx="2661840" cy="1483920"/>
          </a:xfrm>
        </p:grpSpPr>
        <p:sp>
          <p:nvSpPr>
            <p:cNvPr id="380" name=""/>
            <p:cNvSpPr/>
            <p:nvPr/>
          </p:nvSpPr>
          <p:spPr>
            <a:xfrm>
              <a:off x="5264640" y="4232160"/>
              <a:ext cx="561960" cy="507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03760" y="4232160"/>
              <a:ext cx="560520" cy="507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0480" y="4232160"/>
              <a:ext cx="560160" cy="507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98880" y="4713480"/>
              <a:ext cx="560160" cy="5054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66080" y="5194080"/>
              <a:ext cx="560520" cy="507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97200" y="4232160"/>
              <a:ext cx="560520" cy="5072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64640" y="4713480"/>
              <a:ext cx="560520" cy="5054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25160" y="5209200"/>
              <a:ext cx="533880" cy="5068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294080" y="57006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上面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489480" y="2376360"/>
            <a:ext cx="3030480" cy="1595160"/>
            <a:chOff x="3489480" y="2376360"/>
            <a:chExt cx="3030480" cy="1595160"/>
          </a:xfrm>
        </p:grpSpPr>
        <p:sp>
          <p:nvSpPr>
            <p:cNvPr id="390" name=""/>
            <p:cNvSpPr/>
            <p:nvPr/>
          </p:nvSpPr>
          <p:spPr>
            <a:xfrm>
              <a:off x="3489480" y="292104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9480" y="237636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95360" y="292104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54800" y="292104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292104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4560" y="307692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8080" y="3232440"/>
              <a:ext cx="839160" cy="73908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80800" y="3076920"/>
              <a:ext cx="839160" cy="739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93960" y="3232440"/>
              <a:ext cx="839160" cy="73908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96920" y="485640"/>
            <a:ext cx="2621160" cy="852480"/>
            <a:chOff x="1096920" y="485640"/>
            <a:chExt cx="2621160" cy="852480"/>
          </a:xfrm>
        </p:grpSpPr>
        <p:sp>
          <p:nvSpPr>
            <p:cNvPr id="400" name=""/>
            <p:cNvSpPr/>
            <p:nvPr/>
          </p:nvSpPr>
          <p:spPr>
            <a:xfrm>
              <a:off x="1565280" y="54432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1096920" y="48564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47720" y="2973240"/>
            <a:ext cx="770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将立体图表的表面适当剪开，可以展开成平面图形，这样的平面图形称为相应的立体图形的展开图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2960" y="1344600"/>
            <a:ext cx="3838680" cy="782640"/>
            <a:chOff x="2982960" y="1344600"/>
            <a:chExt cx="3838680" cy="78264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5821560" y="13446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982960" y="14576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4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4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322280" y="826920"/>
            <a:ext cx="7081920" cy="4643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592360" y="5456160"/>
            <a:ext cx="40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展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306440" y="876240"/>
            <a:ext cx="7256520" cy="4429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751120" y="5334120"/>
            <a:ext cx="40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展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295280" y="880920"/>
            <a:ext cx="7226280" cy="45896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709720" y="5532480"/>
            <a:ext cx="40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展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276200" y="925560"/>
            <a:ext cx="7286760" cy="4502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825640" y="5442120"/>
            <a:ext cx="40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展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341360" y="603360"/>
            <a:ext cx="6715080" cy="4743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724120" y="5465880"/>
            <a:ext cx="40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展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81040" y="878040"/>
            <a:ext cx="7024680" cy="4716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557388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标志图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138480" y="3257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1168560" y="704880"/>
            <a:ext cx="3155760" cy="2236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49280" y="3157560"/>
            <a:ext cx="2413080" cy="2413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424480" y="3149640"/>
            <a:ext cx="3173400" cy="24796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5424480" y="662040"/>
            <a:ext cx="3105000" cy="2330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471840" y="557064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装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8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59000" y="95076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一画长方体的展开图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6904080" y="820800"/>
            <a:ext cx="1752480" cy="10461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rot="5400000">
            <a:off x="7268760" y="2003400"/>
            <a:ext cx="917640" cy="644760"/>
          </a:xfrm>
          <a:prstGeom prst="rightArrow">
            <a:avLst>
              <a:gd name="adj1" fmla="val 50000"/>
              <a:gd name="adj2" fmla="val 3558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12800" y="1940040"/>
            <a:ext cx="2941560" cy="3123720"/>
            <a:chOff x="712800" y="1940040"/>
            <a:chExt cx="2941560" cy="3123720"/>
          </a:xfrm>
        </p:grpSpPr>
        <p:sp>
          <p:nvSpPr>
            <p:cNvPr id="426" name=""/>
            <p:cNvSpPr/>
            <p:nvPr/>
          </p:nvSpPr>
          <p:spPr>
            <a:xfrm>
              <a:off x="1490760" y="2722320"/>
              <a:ext cx="140148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86120" y="3503520"/>
              <a:ext cx="768240" cy="767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2800" y="2720880"/>
              <a:ext cx="768240" cy="767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90760" y="1940040"/>
              <a:ext cx="140148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84280" y="3501720"/>
              <a:ext cx="140184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84280" y="4282920"/>
              <a:ext cx="140184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070520" y="2332080"/>
            <a:ext cx="4340160" cy="2342880"/>
            <a:chOff x="4070520" y="2332080"/>
            <a:chExt cx="4340160" cy="2342880"/>
          </a:xfrm>
        </p:grpSpPr>
        <p:sp>
          <p:nvSpPr>
            <p:cNvPr id="433" name=""/>
            <p:cNvSpPr/>
            <p:nvPr/>
          </p:nvSpPr>
          <p:spPr>
            <a:xfrm>
              <a:off x="4070520" y="3125520"/>
              <a:ext cx="768240" cy="76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40600" y="3111480"/>
              <a:ext cx="768240" cy="768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38760" y="3894120"/>
              <a:ext cx="140184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24360" y="2332080"/>
              <a:ext cx="140184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08840" y="3112920"/>
              <a:ext cx="1401840" cy="781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38760" y="3111480"/>
              <a:ext cx="1401840" cy="780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224240" y="54165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还有其他形式的展开图吗？画一画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59000" y="95076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一画圆柱的展开图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8040" y="2079720"/>
            <a:ext cx="1501920" cy="2509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894040" y="3335400"/>
            <a:ext cx="1473120" cy="644400"/>
          </a:xfrm>
          <a:prstGeom prst="rightArrow">
            <a:avLst>
              <a:gd name="adj1" fmla="val 50000"/>
              <a:gd name="adj2" fmla="val 5715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950000" y="1655640"/>
            <a:ext cx="3590640" cy="4208400"/>
            <a:chOff x="4950000" y="1655640"/>
            <a:chExt cx="3590640" cy="4208400"/>
          </a:xfrm>
        </p:grpSpPr>
        <p:sp>
          <p:nvSpPr>
            <p:cNvPr id="444" name=""/>
            <p:cNvSpPr/>
            <p:nvPr/>
          </p:nvSpPr>
          <p:spPr>
            <a:xfrm>
              <a:off x="4950000" y="2962080"/>
              <a:ext cx="3590640" cy="1595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50000" y="1655640"/>
              <a:ext cx="1320480" cy="132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0240" y="4543200"/>
              <a:ext cx="1320840" cy="132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03400" y="1920960"/>
            <a:ext cx="57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出下列几何图形的展开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967120" y="3292560"/>
            <a:ext cx="1514520" cy="1596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806400" y="3292560"/>
            <a:ext cx="1530360" cy="1477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7043760" y="3664080"/>
            <a:ext cx="1501920" cy="12254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5021280" y="3173400"/>
            <a:ext cx="13716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1089000" y="515880"/>
            <a:ext cx="2621160" cy="852480"/>
            <a:chOff x="1089000" y="515880"/>
            <a:chExt cx="2621160" cy="852480"/>
          </a:xfrm>
        </p:grpSpPr>
        <p:sp>
          <p:nvSpPr>
            <p:cNvPr id="453" name=""/>
            <p:cNvSpPr/>
            <p:nvPr/>
          </p:nvSpPr>
          <p:spPr>
            <a:xfrm>
              <a:off x="1557360" y="57456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1089000" y="51588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6392880" y="40176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6480" y="2081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几何图形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06480" y="340344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"/>
              </a:rPr>
              <a:t>几何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09800" y="3176640"/>
            <a:ext cx="404640" cy="1746360"/>
          </a:xfrm>
          <a:custGeom>
            <a:avLst/>
            <a:gdLst>
              <a:gd name="textAreaLeft" fmla="*/ 258480 w 404640"/>
              <a:gd name="textAreaRight" fmla="*/ 405000 w 404640"/>
              <a:gd name="textAreaTop" fmla="*/ 45360 h 1746360"/>
              <a:gd name="textAreaBottom" fmla="*/ 1701000 h 17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2936880"/>
            <a:ext cx="597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体图形：包括正方体，长方体，球体，圆柱体， 圆锥，棱柱，棱锥等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55840" y="4092480"/>
            <a:ext cx="5905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面图形：包括三角形，正方形，长方形，菱形，梯形，平行四边形，圆形等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492000" y="0"/>
            <a:ext cx="2849400" cy="1709640"/>
            <a:chOff x="3492000" y="0"/>
            <a:chExt cx="2849400" cy="1709640"/>
          </a:xfrm>
        </p:grpSpPr>
        <p:sp>
          <p:nvSpPr>
            <p:cNvPr id="462" name="filecab3"/>
            <p:cNvSpPr/>
            <p:nvPr/>
          </p:nvSpPr>
          <p:spPr>
            <a:xfrm rot="10800000">
              <a:off x="349200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410976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7358040" y="150480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370160" y="13446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．立体图形与平面图形的关系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59240" y="302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08640" y="31338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4880" y="2509920"/>
            <a:ext cx="1612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正面看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左面看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上面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82960" y="2614680"/>
            <a:ext cx="331920" cy="1379520"/>
          </a:xfrm>
          <a:custGeom>
            <a:avLst/>
            <a:gdLst>
              <a:gd name="textAreaLeft" fmla="*/ 212040 w 331920"/>
              <a:gd name="textAreaRight" fmla="*/ 332280 w 33192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27680" y="3222720"/>
            <a:ext cx="1380960" cy="430200"/>
          </a:xfrm>
          <a:prstGeom prst="rightArrow">
            <a:avLst>
              <a:gd name="adj1" fmla="val 50000"/>
              <a:gd name="adj2" fmla="val 80251"/>
            </a:avLst>
          </a:prstGeom>
          <a:solidFill>
            <a:srgbClr val="0000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46240" y="3652920"/>
            <a:ext cx="739800" cy="1171440"/>
          </a:xfrm>
          <a:prstGeom prst="downArrow">
            <a:avLst>
              <a:gd name="adj1" fmla="val 50000"/>
              <a:gd name="adj2" fmla="val 39586"/>
            </a:avLst>
          </a:prstGeom>
          <a:solidFill>
            <a:srgbClr val="0000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展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24160" y="482436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075200" y="494820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8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33240" y="1932120"/>
            <a:ext cx="8278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列图形中（每个四边形皆为全等的正方形），可以是正方体形表面展开图的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155000" y="3654360"/>
            <a:ext cx="1554120" cy="15670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10960" y="3340080"/>
            <a:ext cx="1563840" cy="15541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511360" y="3124080"/>
            <a:ext cx="1793880" cy="18068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4773600" y="3400560"/>
            <a:ext cx="2063880" cy="1530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33240" y="5168880"/>
            <a:ext cx="80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                        C 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99800" y="253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968200" y="0"/>
            <a:ext cx="2849400" cy="1709640"/>
            <a:chOff x="2968200" y="0"/>
            <a:chExt cx="2849400" cy="1709640"/>
          </a:xfrm>
        </p:grpSpPr>
        <p:sp>
          <p:nvSpPr>
            <p:cNvPr id="482" name="filecab3"/>
            <p:cNvSpPr/>
            <p:nvPr/>
          </p:nvSpPr>
          <p:spPr>
            <a:xfrm rot="10800000">
              <a:off x="296820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6"/>
            <a:stretch/>
          </p:blipFill>
          <p:spPr>
            <a:xfrm>
              <a:off x="358596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8240" y="1618920"/>
            <a:ext cx="7766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面各项是日常生活中常见的事物，哪一个不是球体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草果         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地球仪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篮球       　  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羽毛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面的几何体哪个可以与四棱锥归于一类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长方体    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五棱柱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球体     　　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五棱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9520" y="173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89480" y="3943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082600" y="148356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图是哪种几何体表面展开的图形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67880" y="2072520"/>
            <a:ext cx="50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棱柱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圆锥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球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133720" y="3359160"/>
            <a:ext cx="4150440" cy="2214000"/>
            <a:chOff x="2133720" y="3359160"/>
            <a:chExt cx="4150440" cy="2214000"/>
          </a:xfrm>
        </p:grpSpPr>
        <p:grpSp>
          <p:nvGrpSpPr>
            <p:cNvPr id="490" name=""/>
            <p:cNvGrpSpPr/>
            <p:nvPr/>
          </p:nvGrpSpPr>
          <p:grpSpPr>
            <a:xfrm>
              <a:off x="2963520" y="3359160"/>
              <a:ext cx="3320640" cy="2214000"/>
              <a:chOff x="2963520" y="3359160"/>
              <a:chExt cx="3320640" cy="2214000"/>
            </a:xfrm>
          </p:grpSpPr>
          <p:sp>
            <p:nvSpPr>
              <p:cNvPr id="491" name=""/>
              <p:cNvSpPr/>
              <p:nvPr/>
            </p:nvSpPr>
            <p:spPr>
              <a:xfrm>
                <a:off x="2963520" y="3359160"/>
                <a:ext cx="2583000" cy="553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63520" y="3912480"/>
                <a:ext cx="2583000" cy="553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63520" y="4466160"/>
                <a:ext cx="2583000" cy="553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63520" y="5019840"/>
                <a:ext cx="2583000" cy="553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46520" y="5019840"/>
                <a:ext cx="737640" cy="553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133720" y="3359160"/>
              <a:ext cx="829800" cy="632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7271280" y="1441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631880" y="107244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画出下列图形未展开时的平面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41320" y="1990800"/>
            <a:ext cx="3657240" cy="3042720"/>
            <a:chOff x="841320" y="1990800"/>
            <a:chExt cx="3657240" cy="3042720"/>
          </a:xfrm>
        </p:grpSpPr>
        <p:sp>
          <p:nvSpPr>
            <p:cNvPr id="500" name=""/>
            <p:cNvSpPr/>
            <p:nvPr/>
          </p:nvSpPr>
          <p:spPr>
            <a:xfrm>
              <a:off x="1122480" y="3107880"/>
              <a:ext cx="3094560" cy="893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3200" y="4002120"/>
              <a:ext cx="1125360" cy="1031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1320" y="1990800"/>
              <a:ext cx="1125360" cy="1117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6302520" y="2279520"/>
            <a:ext cx="1490400" cy="2492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34" dur="indefinite" restart="never" nodeType="tmRoot">
          <p:childTnLst>
            <p:seq>
              <p:cTn id="1935" dur="indefinite" nodeType="mainSeq">
                <p:childTnLst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96120" cy="426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530064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华人民共和国国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6275520" y="2127240"/>
            <a:ext cx="2388240" cy="1696320"/>
            <a:chOff x="6275520" y="2127240"/>
            <a:chExt cx="2388240" cy="1696320"/>
          </a:xfrm>
        </p:grpSpPr>
        <p:grpSp>
          <p:nvGrpSpPr>
            <p:cNvPr id="505" name=""/>
            <p:cNvGrpSpPr/>
            <p:nvPr/>
          </p:nvGrpSpPr>
          <p:grpSpPr>
            <a:xfrm>
              <a:off x="6275520" y="2127240"/>
              <a:ext cx="1023120" cy="726480"/>
              <a:chOff x="6275520" y="2127240"/>
              <a:chExt cx="1023120" cy="726480"/>
            </a:xfrm>
          </p:grpSpPr>
          <p:sp>
            <p:nvSpPr>
              <p:cNvPr id="506" name=""/>
              <p:cNvSpPr/>
              <p:nvPr/>
            </p:nvSpPr>
            <p:spPr>
              <a:xfrm>
                <a:off x="6275520" y="2369160"/>
                <a:ext cx="681840" cy="484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275520" y="212724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957360" y="212724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616800" y="212724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957360" y="261108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98640" y="2127240"/>
                <a:ext cx="0" cy="48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275520" y="3096720"/>
              <a:ext cx="1023120" cy="726840"/>
              <a:chOff x="6275520" y="3096720"/>
              <a:chExt cx="1023120" cy="726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275520" y="3338640"/>
                <a:ext cx="681840" cy="48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27552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5736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16800" y="309672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6957360" y="358092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98640" y="3096720"/>
                <a:ext cx="0" cy="484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275520" y="2611800"/>
              <a:ext cx="1023120" cy="726840"/>
              <a:chOff x="6275520" y="2611800"/>
              <a:chExt cx="1023120" cy="726840"/>
            </a:xfrm>
          </p:grpSpPr>
          <p:sp>
            <p:nvSpPr>
              <p:cNvPr id="520" name=""/>
              <p:cNvSpPr/>
              <p:nvPr/>
            </p:nvSpPr>
            <p:spPr>
              <a:xfrm>
                <a:off x="6275520" y="2853720"/>
                <a:ext cx="681840" cy="48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6275520" y="261180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957360" y="261180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616800" y="261180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957360" y="309600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98640" y="2611800"/>
                <a:ext cx="0" cy="484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6957720" y="3096720"/>
              <a:ext cx="1023120" cy="726840"/>
              <a:chOff x="6957720" y="3096720"/>
              <a:chExt cx="1023120" cy="726840"/>
            </a:xfrm>
          </p:grpSpPr>
          <p:sp>
            <p:nvSpPr>
              <p:cNvPr id="527" name=""/>
              <p:cNvSpPr/>
              <p:nvPr/>
            </p:nvSpPr>
            <p:spPr>
              <a:xfrm>
                <a:off x="6957720" y="3338640"/>
                <a:ext cx="681840" cy="48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95772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63956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99000" y="309672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639560" y="358092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80840" y="3096720"/>
                <a:ext cx="0" cy="484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7640640" y="3096720"/>
              <a:ext cx="1023120" cy="726840"/>
              <a:chOff x="7640640" y="3096720"/>
              <a:chExt cx="1023120" cy="726840"/>
            </a:xfrm>
          </p:grpSpPr>
          <p:sp>
            <p:nvSpPr>
              <p:cNvPr id="534" name=""/>
              <p:cNvSpPr/>
              <p:nvPr/>
            </p:nvSpPr>
            <p:spPr>
              <a:xfrm>
                <a:off x="7640640" y="3338640"/>
                <a:ext cx="681840" cy="48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4064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8322480" y="309672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981920" y="309672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8322480" y="358092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663760" y="3096720"/>
                <a:ext cx="0" cy="484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957720" y="2611800"/>
              <a:ext cx="1023120" cy="726840"/>
              <a:chOff x="6957720" y="2611800"/>
              <a:chExt cx="1023120" cy="726840"/>
            </a:xfrm>
          </p:grpSpPr>
          <p:sp>
            <p:nvSpPr>
              <p:cNvPr id="541" name=""/>
              <p:cNvSpPr/>
              <p:nvPr/>
            </p:nvSpPr>
            <p:spPr>
              <a:xfrm>
                <a:off x="6957720" y="2853720"/>
                <a:ext cx="681840" cy="48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957720" y="261180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639560" y="2611800"/>
                <a:ext cx="341280" cy="24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99000" y="2611800"/>
                <a:ext cx="681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639560" y="3096000"/>
                <a:ext cx="341280" cy="24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80840" y="2611800"/>
                <a:ext cx="0" cy="484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3000" y="85392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列图形是由小立方体搭成的简单的几何体，分别从正面、左面、上面观察这个图形，并画出所看到的平面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60400" y="3340080"/>
            <a:ext cx="1878120" cy="2035080"/>
            <a:chOff x="860400" y="3340080"/>
            <a:chExt cx="1878120" cy="2035080"/>
          </a:xfrm>
        </p:grpSpPr>
        <p:sp>
          <p:nvSpPr>
            <p:cNvPr id="550" name=""/>
            <p:cNvSpPr/>
            <p:nvPr/>
          </p:nvSpPr>
          <p:spPr>
            <a:xfrm>
              <a:off x="1486080" y="3824280"/>
              <a:ext cx="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0920" y="4854600"/>
              <a:ext cx="13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从正面看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0400" y="3340080"/>
              <a:ext cx="62568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400" y="3840120"/>
              <a:ext cx="62568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0400" y="4352760"/>
              <a:ext cx="625680" cy="500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86080" y="435456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87520" y="385452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12840" y="4354560"/>
              <a:ext cx="62568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506760" y="3448080"/>
            <a:ext cx="2022480" cy="2033280"/>
            <a:chOff x="3506760" y="3448080"/>
            <a:chExt cx="2022480" cy="2033280"/>
          </a:xfrm>
        </p:grpSpPr>
        <p:sp>
          <p:nvSpPr>
            <p:cNvPr id="559" name=""/>
            <p:cNvSpPr/>
            <p:nvPr/>
          </p:nvSpPr>
          <p:spPr>
            <a:xfrm>
              <a:off x="3506760" y="4960800"/>
              <a:ext cx="202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从左面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94200" y="344808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4200" y="394812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94200" y="446076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075360" y="4316400"/>
            <a:ext cx="2247840" cy="1164960"/>
            <a:chOff x="6075360" y="4316400"/>
            <a:chExt cx="2247840" cy="1164960"/>
          </a:xfrm>
        </p:grpSpPr>
        <p:sp>
          <p:nvSpPr>
            <p:cNvPr id="564" name=""/>
            <p:cNvSpPr/>
            <p:nvPr/>
          </p:nvSpPr>
          <p:spPr>
            <a:xfrm>
              <a:off x="6350040" y="4960800"/>
              <a:ext cx="197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从上面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75360" y="4316400"/>
              <a:ext cx="625320" cy="5000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00680" y="4317840"/>
              <a:ext cx="625680" cy="500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27800" y="4317840"/>
              <a:ext cx="625680" cy="500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8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87360" y="1014480"/>
            <a:ext cx="6797880" cy="436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40160" y="539280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0:29:54Z</dcterms:created>
  <dc:creator/>
  <dc:description/>
  <dc:language>en-US</dc:language>
  <cp:lastModifiedBy>微软用户</cp:lastModifiedBy>
  <dcterms:modified xsi:type="dcterms:W3CDTF">2014-06-30T01:15:46Z</dcterms:modified>
  <cp:revision>38</cp:revision>
  <dc:subject/>
  <dc:title>4.1.1几何图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c0000000000010250600207f7000400038000</vt:lpwstr>
  </property>
</Properties>
</file>